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png" ContentType="image/png"/>
  <Override PartName="/ppt/media/image3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37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0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38.jpeg" ContentType="image/jpeg"/>
  <Override PartName="/ppt/media/image1.wmf" ContentType="image/x-wmf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F7A-A1E7-40A8-900F-D151702E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794-5776-4280-B1F0-5E42899A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D3B-3B5F-489C-AFB1-A4D5AD22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6DA-4D0C-48D3-B21A-7A80A454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579-AAF5-406A-9492-4BF86B1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E64-B5A1-4DEF-AC8B-1E610953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8C2-4A44-4425-BEFB-1B215FCA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41C-1913-4FF9-918A-AEFDA826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98B-31AB-4914-BAB7-1501B798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638-BA80-4E03-960B-7D71C37A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5C7-16D6-49E1-A360-8EB15650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E07-5F28-45A5-B2C8-C8FAF36B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489C-A084-407E-9B60-B8E98E7B0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flickr.com/photos/mikesf1211/161207464/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kentigern/213891739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flickr.com/photos/alykat/167384766/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ashdigitalis/2474837028/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flickr.com/photos/rehvonwald/1620793087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c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rlene Wa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farm4.static.flickr.com/3004/2322243962_e34cabdf91.jpg"/>
          <p:cNvPicPr/>
          <p:nvPr/>
        </p:nvPicPr>
        <p:blipFill>
          <a:blip r:embed="rId1"/>
          <a:stretch/>
        </p:blipFill>
        <p:spPr>
          <a:xfrm>
            <a:off x="3200400" y="228600"/>
            <a:ext cx="4435560" cy="3211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Number Eigh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388620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4"/>
          <a:stretch/>
        </p:blipFill>
        <p:spPr>
          <a:xfrm>
            <a:off x="4267080" y="281952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http://farm1.static.flickr.com/160/431922196_d805fbcbd1_m.jpg"/>
          <p:cNvPicPr/>
          <p:nvPr/>
        </p:nvPicPr>
        <p:blipFill>
          <a:blip r:embed="rId5"/>
          <a:stretch/>
        </p:blipFill>
        <p:spPr>
          <a:xfrm>
            <a:off x="2514600" y="2819520"/>
            <a:ext cx="2514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7288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2666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Number Sev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65760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525780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he Universal RSS Logo/Icon by orangejack."/>
          <p:cNvPicPr/>
          <p:nvPr/>
        </p:nvPicPr>
        <p:blipFill>
          <a:blip r:embed="rId4"/>
          <a:stretch/>
        </p:blipFill>
        <p:spPr>
          <a:xfrm>
            <a:off x="6248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y F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ethica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creativecommons.org/images/features/copyremix.gif"/>
          <p:cNvPicPr/>
          <p:nvPr/>
        </p:nvPicPr>
        <p:blipFill>
          <a:blip r:embed="rId1"/>
          <a:stretch/>
        </p:blipFill>
        <p:spPr>
          <a:xfrm>
            <a:off x="3581280" y="304920"/>
            <a:ext cx="5137200" cy="579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Number Si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97180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l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Number F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3526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3"/>
          <a:stretch/>
        </p:blipFill>
        <p:spPr>
          <a:xfrm>
            <a:off x="3276720" y="228600"/>
            <a:ext cx="5486400" cy="5791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27432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Number Five"/>
          <p:cNvPicPr/>
          <p:nvPr/>
        </p:nvPicPr>
        <p:blipFill>
          <a:blip r:embed="rId1"/>
          <a:stretch/>
        </p:blipFill>
        <p:spPr>
          <a:xfrm>
            <a:off x="457200" y="342900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5486400" cy="59436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5410080" y="5257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rs. Cassidy’s Classroom 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2090160" y="495288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ling The New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ShockwaveFlash1"/>
          <p:cNvGraphicFramePr/>
          <p:nvPr/>
        </p:nvGraphicFramePr>
        <p:xfrm>
          <a:off x="533520" y="1676520"/>
          <a:ext cx="82278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227800" cy="4495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t A (Second) Lif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tual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Four"/>
          <p:cNvPicPr/>
          <p:nvPr/>
        </p:nvPicPr>
        <p:blipFill>
          <a:blip r:embed="rId1"/>
          <a:stretch/>
        </p:blipFill>
        <p:spPr>
          <a:xfrm>
            <a:off x="457200" y="358128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5334120" cy="59436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4114800" y="5029200"/>
            <a:ext cx="480060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cago Public Schools Department of Libra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pleased to announce a special se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three events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mmer Author Ch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at will take place in Teen Second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 and Collabo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Pewter Number 3"/>
          <p:cNvPicPr/>
          <p:nvPr/>
        </p:nvPicPr>
        <p:blipFill>
          <a:blip r:embed="rId1"/>
          <a:stretch/>
        </p:blipFill>
        <p:spPr>
          <a:xfrm>
            <a:off x="533520" y="358128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5562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blog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the old number 2 by jmhanna."/>
          <p:cNvPicPr/>
          <p:nvPr/>
        </p:nvPicPr>
        <p:blipFill>
          <a:blip r:embed="rId1"/>
          <a:stretch/>
        </p:blipFill>
        <p:spPr>
          <a:xfrm>
            <a:off x="457200" y="3048120"/>
            <a:ext cx="2362320" cy="311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510516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42926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stom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1"/>
          <p:cNvPicPr/>
          <p:nvPr/>
        </p:nvPicPr>
        <p:blipFill>
          <a:blip r:embed="rId1"/>
          <a:stretch/>
        </p:blipFill>
        <p:spPr>
          <a:xfrm>
            <a:off x="457200" y="3505320"/>
            <a:ext cx="167652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3276720" y="533520"/>
            <a:ext cx="5410080" cy="5715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4038480" y="5638680"/>
            <a:ext cx="4872240" cy="824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ttp://www.netvibes.com/wesch#Digital_Ethnograph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ShockwaveFlash1"/>
          <p:cNvGraphicFramePr/>
          <p:nvPr/>
        </p:nvGraphicFramePr>
        <p:xfrm>
          <a:off x="533520" y="304920"/>
          <a:ext cx="81532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8153280" cy="586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entury Le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Content Placeholder 4" descr="ComputerWork_Oct07.JPG"/>
          <p:cNvPicPr/>
          <p:nvPr/>
        </p:nvPicPr>
        <p:blipFill>
          <a:blip r:embed="rId1"/>
          <a:stretch/>
        </p:blipFill>
        <p:spPr>
          <a:xfrm>
            <a:off x="3124080" y="609480"/>
            <a:ext cx="5580360" cy="5486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e read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entury Le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re than one-half of all teens have created media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e-third of  teens who use the Internet have shared content they produc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w Internet &amp; Life Project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Pavement by sfllaw."/>
          <p:cNvPicPr/>
          <p:nvPr/>
        </p:nvPicPr>
        <p:blipFill>
          <a:blip r:embed="rId1"/>
          <a:stretch/>
        </p:blipFill>
        <p:spPr>
          <a:xfrm>
            <a:off x="3581280" y="228600"/>
            <a:ext cx="514368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5638680" y="54864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http://www.flickr.com/photos/sfllaw/512670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-searc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– and Google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google_logo by keso."/>
          <p:cNvPicPr/>
          <p:nvPr/>
        </p:nvPicPr>
        <p:blipFill>
          <a:blip r:embed="rId1"/>
          <a:stretch/>
        </p:blipFill>
        <p:spPr>
          <a:xfrm>
            <a:off x="3581280" y="228600"/>
            <a:ext cx="510552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4724280" y="579132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http://www.flickr.com/photos/keso/108805307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4419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my network replaced Goog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are my personal learning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library2go.files.wordpress.com/2008/04/google.jpg"/>
          <p:cNvPicPr/>
          <p:nvPr/>
        </p:nvPicPr>
        <p:blipFill>
          <a:blip r:embed="rId1"/>
          <a:stretch/>
        </p:blipFill>
        <p:spPr>
          <a:xfrm>
            <a:off x="4800600" y="1785960"/>
            <a:ext cx="411480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www.fareastgizmos.com/entry_images/1206/26/Wikipedia.jpg"/>
          <p:cNvPicPr/>
          <p:nvPr/>
        </p:nvPicPr>
        <p:blipFill>
          <a:blip r:embed="rId2"/>
          <a:stretch/>
        </p:blipFill>
        <p:spPr>
          <a:xfrm>
            <a:off x="5257800" y="3362400"/>
            <a:ext cx="3332160" cy="319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cockingasnook.files.wordpress.com/2007/05/stack-of-books.jpg"/>
          <p:cNvPicPr/>
          <p:nvPr/>
        </p:nvPicPr>
        <p:blipFill>
          <a:blip r:embed="rId3"/>
          <a:stretch/>
        </p:blipFill>
        <p:spPr>
          <a:xfrm>
            <a:off x="457200" y="2666880"/>
            <a:ext cx="2895480" cy="419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blazers.uppermerionsports.com/images/email_icon.gif"/>
          <p:cNvPicPr/>
          <p:nvPr/>
        </p:nvPicPr>
        <p:blipFill>
          <a:blip r:embed="rId4"/>
          <a:stretch/>
        </p:blipFill>
        <p:spPr>
          <a:xfrm>
            <a:off x="2819520" y="2438280"/>
            <a:ext cx="2847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 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LOGO2.0 part I by Stabilo Boss."/>
          <p:cNvPicPr/>
          <p:nvPr/>
        </p:nvPicPr>
        <p:blipFill>
          <a:blip r:embed="rId1"/>
          <a:stretch/>
        </p:blipFill>
        <p:spPr>
          <a:xfrm>
            <a:off x="3581280" y="304920"/>
            <a:ext cx="502920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 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 ten ways to become a </a:t>
            </a: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SOCIA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 develop a new </a:t>
            </a: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PEDAGOGICAL D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Number ten by Claudecf."/>
          <p:cNvPicPr/>
          <p:nvPr/>
        </p:nvPicPr>
        <p:blipFill>
          <a:blip r:embed="rId1"/>
          <a:stretch/>
        </p:blipFill>
        <p:spPr>
          <a:xfrm>
            <a:off x="3581280" y="304920"/>
            <a:ext cx="5105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2819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aborativ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Number ten by Claudecf."/>
          <p:cNvPicPr/>
          <p:nvPr/>
        </p:nvPicPr>
        <p:blipFill>
          <a:blip r:embed="rId1"/>
          <a:stretch/>
        </p:blipFill>
        <p:spPr>
          <a:xfrm>
            <a:off x="533520" y="3200400"/>
            <a:ext cx="2452680" cy="2819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5410440" cy="49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Where to Find a Good Wiki by cogdogblog."/>
          <p:cNvPicPr/>
          <p:nvPr/>
        </p:nvPicPr>
        <p:blipFill>
          <a:blip r:embed="rId3"/>
          <a:stretch/>
        </p:blipFill>
        <p:spPr>
          <a:xfrm>
            <a:off x="4800600" y="3276720"/>
            <a:ext cx="3924360" cy="2790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5257800" y="563868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://www.flickr.com/photos/cogdog/162725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el.icio.us icon"/>
          <p:cNvPicPr/>
          <p:nvPr/>
        </p:nvPicPr>
        <p:blipFill>
          <a:blip r:embed="rId1"/>
          <a:stretch/>
        </p:blipFill>
        <p:spPr>
          <a:xfrm>
            <a:off x="2590920" y="0"/>
            <a:ext cx="253836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d &amp;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Bookm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y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0" descr="House Number Nine - East Berl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4086360"/>
            <a:ext cx="1904760" cy="23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tretch/>
        </p:blipFill>
        <p:spPr>
          <a:xfrm>
            <a:off x="3987720" y="914400"/>
            <a:ext cx="5079960" cy="4365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5"/>
          <a:stretch/>
        </p:blipFill>
        <p:spPr>
          <a:xfrm>
            <a:off x="3048120" y="3429000"/>
            <a:ext cx="464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7:51:29Z</dcterms:created>
  <dc:creator>pssd</dc:creator>
  <dc:description/>
  <dc:language>en-US</dc:language>
  <cp:lastModifiedBy>cw164</cp:lastModifiedBy>
  <dcterms:modified xsi:type="dcterms:W3CDTF">2008-08-29T23:09:11Z</dcterms:modified>
  <cp:revision>72</cp:revision>
  <dc:subject/>
  <dc:title>eclection</dc:title>
</cp:coreProperties>
</file>